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B44E-9AFB-4C86-BA72-B04F78AED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D7F7-88AA-422D-A852-747617A32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00AC-F501-4A71-B134-05635079B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13BF-95A8-413A-AFEF-54F1AFDBD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2E65-62CA-46A0-B532-A0A0DFE56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4C98-64CB-43A4-AE09-A14400FD2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4C40-60B7-49F1-BBED-E5C151BD5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1208-7230-4C09-B7CB-D2DAE6045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294C-62CA-4907-A3F7-BC9AD1C49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07AA-AA1C-48EC-B21C-3D7F1173B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15C8-AC15-459F-8260-78F79C398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C28B-4602-4E67-87F7-FB45009B6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CB77-7C72-4549-AE1E-D078678F4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11EF-709D-4B71-A77B-1D81FDD96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4207-0A01-4E61-A6A0-307ECCD79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D0C9-F213-46D0-A6A6-86D1EAE54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96C4-39C0-42CE-AF05-12B440F80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5C55-F809-4509-821F-4EE1A698A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60F2-22ED-4832-B5EE-1BC5792E9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1199-1522-4EB8-94D9-6AF0F75D4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C9F8-E2A2-421E-805C-094506AE8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87F5-D9A4-4780-B376-F5C319DAE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C4BB-20D4-415B-BD97-AABCACF4F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9B57-0E66-41A8-A944-C2C86FDA8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AE4C-CC20-4475-801D-B3827835C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1964-7FF0-48AF-B2F4-191FBD004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FF9E-841F-44BA-84C8-3806C677B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FCA0-9AFE-4B97-A61E-0C9EAC1CF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E025-AAE2-4066-9072-DCE759477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D6CA-DDCC-495B-AE2E-A7FE00FA0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A95-ECA1-4F01-B0BE-7AC4068E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9BA5-2158-4E30-BE31-2BFAF595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1D85-4205-473E-A2A3-857B9A76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294-6B29-417F-A717-39A5EE33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ABFF-B1C2-487B-92F5-93712827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276-94FA-448A-B7D1-FE8ACF35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499-0A6C-4696-A039-460CD4C1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8594-6EAB-4E6A-8ADA-30F6F853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A29-3E6C-4B25-81EA-969BE7C5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E92-CCDF-4BB4-A577-F1824BD8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91A9-D1A7-431B-8D7C-247BA2B2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27E-3E11-4934-98C1-14EC8513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B5CA-57B3-4B58-87AB-BD86F70E8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14400" y="1219320"/>
            <a:ext cx="76201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EMENTING SITUATIONAL LEADERSHIP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AGING PEOPLE TO PER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ROVING PRODU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219320" y="28954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04920" y="2666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OF GOODS &amp; 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IVITY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------------------------------------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OR RESOURCES USED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PRODUCE THOSE GOODS &amp;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UTPUT 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ER 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TTER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ROVED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PUT 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TTER UT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NTORY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838080" y="1371600"/>
            <a:ext cx="7696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SENTIAL TO IMPROVING PRODUCTIVITY:  LEADER-FOLLOWER INTE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60 DEGREE ASSESMENT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OF 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EVALUATE PERFORMANCE FROM MULTIPLE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-ASSESSMENT, PEER, FOLLOWER, SUPERVISOR, &amp; CUSTOMER EVAL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HEN COVEY RELATES THIS TO EMPOWE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HIEV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HERSEY AND MARSHALL GOLD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THE ACHIEV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TERMINE WHY PROBLEMS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VELOP STRATEGIES TO S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KEY FACTORS THAT INFLUENCE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MODEL IN A WAY TO REMEMBER--MNUEM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HI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=C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=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=INCEN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=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=VAL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=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-RELEVANT EDUCATION—FORMAL OR INFORMAL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-RELEVANT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-RELEVANT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 PERSON DO THE JOB WITH THE KNOWLEDGE, SKILL, AND EXPERIENCE HE/SHE H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RITY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OR ROLE PERCEP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MAJOR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SHOULD THEY BE ACCOMPL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OF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NOT VER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838080" y="53341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ER AND LEADER SHOULD HAVE THE SAME ANSWERS FOR THE TOP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GANIZATIONAL PERFORM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752480" y="167652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 THAT CONTRIBUTE TO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590920" y="3276720"/>
            <a:ext cx="37335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human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371600" y="62485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er to page 342, figure 15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QUATE BUDGET &amp; PERSO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ITABLE EQUIPMENT &amp; FAC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ROM OTHER DEPAR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WHERE HELP I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ENTIV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 OR WILLING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C OR EXTRINSIC REW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ES TO PAY, PROMOTION, RECOGNITION, JOB SECURITY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ACHING &amp; PERFORMANCE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L—DAY TO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—PERIODIC RE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COGNITION FOR GOOD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ITY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 &amp; LEGAL PERSONNEL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DOCUMENTED &amp; JUSTIFIED ON THE BASIS OF PERFORMANCE-ORIENTED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AL 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FACTORS CAN INFLUENCE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 COMPETITION, CHANGING MARKET CONDITIONS, GOVERNMENT REGULATIONS, SUPPLI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S SITUATIONAL LEADERSHIP CONCEPT &amp; ACHIEV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EMENTING PERFORMANCE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READINESS LEVEL TO DETERMINE INPUT OF FOLL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 ON EVERYONE’S 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UPPORT SHOULD THE ORGANIZATION PRO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A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ONS BETWEEN LEADERSHIP STYLE AND READ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FFICIENT ANALYSIS BEFORE INTER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E PROBLEMS E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URPR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READINESS—SELF EVAL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READINESS—DIRECTIVE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DLE READINESS—JOINT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8600" y="228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HASIS:  IMPROVE HUMAN PRODU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85800" y="22096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ing on a firm’s human resources could provide a significant opportunity to secure a sustained edge over competitors” (Hersey, Blanchard, &amp; Johnson, 34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33520" y="1066680"/>
            <a:ext cx="83055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cMillan &amp; Schular see an increasing role for human resource managers in developing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dentify needed skills and current in-house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o 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human resources are unequivocally excell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motivate employees who possess the key skil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trategic targets could be pursu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trategic thrusts will be critical for the fut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990720" y="18288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Millan and Schuler state that advantage can be gained by making employees have the essential skills and are suitably motiva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057400" y="182880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 FACTORS OF PERFORMANCE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CLAY CA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ST CRITICAL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—WHAT THE INDIVIDUAL OR GROUP TRIES TO ACHI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VS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 REQUI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 DES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E—WHY SHOULD THEY DO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N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ARTS OF THE S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TELL WHEN GOAL IS ACCOMPLISHED; WHEN DO I KNOW I AM SUCCESS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REPORTS OF QUALITY AND QUANTITY OF PROGRESS TOWARD THE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WHAT ARE THE RESOURCES AVAILABLE TO ACHIEVE THE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NOT JUST LEARN BUT APPLY/PERFORM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MUST BE GIVEN TIME AND PRIORITY BY SUPER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02:15:54Z</dcterms:created>
  <dc:creator>Tricia Hester</dc:creator>
  <dc:description/>
  <dc:language>en-US</dc:language>
  <cp:lastModifiedBy>AEURY</cp:lastModifiedBy>
  <dcterms:modified xsi:type="dcterms:W3CDTF">2009-06-01T16:09:28Z</dcterms:modified>
  <cp:revision>12</cp:revision>
  <dc:subject/>
  <dc:title>PowerPoint Presentation</dc:title>
</cp:coreProperties>
</file>